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F59C-23B8-4155-9256-C064152F0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240C-6125-4955-8C56-42D378AEB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029-E8FF-4C5C-87E1-D0D411A3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5E5-C82B-42B7-8021-33AE3E42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AFF-DC0E-4746-9C6C-CC7C6B15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59E-A169-4E53-9EC0-FB31B278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7EE-9F10-4A3B-B9CB-B22FAB42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B7D-E80C-4DC2-9E8A-7496734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9FB-A614-4D01-91AD-49B53EED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47C-4BAB-4599-AFA3-E2763A56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68F-67D1-447B-93D8-75360039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088-C6B4-4057-99C0-46CAF0B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C71-214C-4335-A9E1-5E752C75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A27-62F8-46D0-81B1-330B726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2E9-DC3D-4788-B17B-6F1C3E0F9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ra Mucoll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ra Mucoll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ra Mucollar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ra Mucollar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ra Mucollar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Sara. Yo vivo en la ciudad de New York. Tengo 14 años. Yo tengo dos herman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657600"/>
            <a:ext cx="3809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124080"/>
            <a:ext cx="3809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puedo comer pizza?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ambién, si usted venir traer                                                                                     Sar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1148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ir en el sábado?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45720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ónde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2578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el Papá Johns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én quiere comer pizz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743200" y="586728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én yendo? Me, Sara y Rania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2743200" y="64008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, nosotras yendo en la pizzería mañana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8:38Z</dcterms:created>
  <dc:creator>FriscoISD</dc:creator>
  <dc:description/>
  <dc:language>en-US</dc:language>
  <cp:lastModifiedBy>NYCDOE</cp:lastModifiedBy>
  <dcterms:modified xsi:type="dcterms:W3CDTF">2012-12-07T14:15:56Z</dcterms:modified>
  <cp:revision>105</cp:revision>
  <dc:subject/>
  <dc:title>Profile</dc:title>
</cp:coreProperties>
</file>